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C2D-537B-4C5F-A375-3371E368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716-D0C0-4B7E-8A2E-0BDF701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2AA-9063-4FDB-985D-28D66B1F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20D-6D19-4C90-AB49-9E1575F1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83F-63EB-4CED-AFFB-5A98D076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B65-4C1F-4813-88A7-78BC97A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52D-B94D-4CA1-BB82-4187A0D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8D4-CDDB-44C2-91A4-A5E74E52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4B5-0149-4EB0-A92C-D5BCC90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3BC-111E-4AF6-A3C4-72D06F1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33D-F591-4776-BB8B-0EED1B50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054-7457-4689-9C79-BBE64B3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37880-BD97-47D5-98CC-1EA1348F5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LUMN@S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ODA%20A%20PRESENTACION.ppt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1440000"/>
            <a:ext cx="867564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CONVERTER UN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O NUNHA FOTONOV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6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BALLAMOS CO ORDENADOR E O POWER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FACELO, DEBEMOS TER MOI CLARO CALES SON AS IMAXES QUE IMOS USAR, OS TEXTOS QUE LLES IMOS POÑ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ÉN TEMOS A OPCIÓN DE PRACTICAR UN POUCO ANTES DE O FA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HA MANEIRA RÁPIDA DE FACELO É NUMERAR AS IMAXES, POÑER OS RAPACES POR PARELLAS E ASIGNARLLE UNHAS CANTAS A CADA PAR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POWER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É UN PROGRAMA QUE ESTÁ DENTRO DOS DE MICROSOF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 ABRILO (SE NON TEN ACCESO DIRECTO), DESPOIS DE ACENDER O ORDENADOR: PROGRAMAS &gt; MICROSOFT OFFICE &gt;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cheiro: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: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o &gt; estilo de diapositiva (neste caso a plantilla básica con fondo bran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o &gt; deseño de diapositiva (a que se titula “contido” ou “en branco”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O INTRODUCIMOS AS FO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 Deseño de diapositiva “en branc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sertar &gt; imaxe &gt; desde ficheiro (imos ao ficheiro no que temos a imaxe, seleccionámola e dámoslle a “inserta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 Deseño de diapositiva “contid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amos sobre a icona de insertar imaxe (¡ollo, non sobre a de imaxe predeseñada!), seleccionámola e dámoslle a inser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VAS DIA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seguir poñendo máis diapositivas temos 2 opció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sertar &gt; Nova dia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r activada en “Barra de ferramentas” a opción “formato” e aí clicar en “nova diapositiv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XA TEMOS TODAS AS IMAXES!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ramos que estean na orde que desex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on é así, facemos o segui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 &gt; clasificador de diapositivas &gt; arrastramos cada unha á posición que queir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ois volvemos a Ver &gt;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O INTRODUCIMOS O TEX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É imprescindible ter activada a barra de debux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 &gt; Barra de Ferramentas &gt; Debu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esta barra hai un apartado que se denomina “Autoformas” e alí outro que se denomina “Chamadas” no que están os globos que nos permitirán introducir o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uxo &gt; autoformas &gt; cham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ACTICAM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04960" y="1768320"/>
            <a:ext cx="6665760" cy="498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08360" y="2050920"/>
            <a:ext cx="3600360" cy="1008360"/>
          </a:xfrm>
          <a:prstGeom prst="wedgeRectCallout">
            <a:avLst>
              <a:gd name="adj1" fmla="val -49027"/>
              <a:gd name="adj2" fmla="val 11110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HAMAD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 bo que practiquemos coas CHA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nos poñemos sobre ela e aparece un símbolo de 4 frechas quere dicir que a podemos levar para onde queir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nos colocamos sobre os puntos brancos podemos variar o longo e o an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punto verde permítenos rot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rombo amarelo déixanos situar o pico da chamada onde queir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PARAMOS A CHAMADA PARA O TEXTO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emos dobre clic co rato dentro da chamada e obtemos o “Formato de autofor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“color e liña” seleccionamos a cor negra no “recheo” propia das chamadas das Fotonov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actica con todas as Opcións que che dá o Formato de auto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NECESIT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79640"/>
            <a:ext cx="9072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RELATO QUE NOS INTE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LUMN@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QUE O 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ORDENADOR CON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HA CÁMARA DE FOTOS DIX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ACTICAM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04960" y="1768320"/>
            <a:ext cx="6665760" cy="498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08360" y="2050920"/>
            <a:ext cx="3600360" cy="1008360"/>
          </a:xfrm>
          <a:prstGeom prst="wedgeRectCallout">
            <a:avLst>
              <a:gd name="adj1" fmla="val -49027"/>
              <a:gd name="adj2" fmla="val 1111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IMOS O TEXT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emos clic co botón dereito do rato dentro da cham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ois imos a “Fo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primeiro que eliximos é a cor que ten de ser branca para verse no fondo neg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ois podes elixir o resto de características da letra e xa podes comezar a escrib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ACTICAM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04960" y="1768320"/>
            <a:ext cx="6665760" cy="4988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08360" y="2050920"/>
            <a:ext cx="3527280" cy="505080"/>
          </a:xfrm>
          <a:prstGeom prst="wedgeRectCallout">
            <a:avLst>
              <a:gd name="adj1" fmla="val -49009"/>
              <a:gd name="adj2" fmla="val 271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áme un xarope, por fav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 SE O TEXTO É DO NARRAD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34560" y="1768320"/>
            <a:ext cx="914580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rra de ferramentas &gt; debuxo &gt; autoformas &gt; formas básicas &gt; rectáng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02040" y="3492360"/>
            <a:ext cx="4362480" cy="326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24360" y="3492360"/>
            <a:ext cx="43210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S SE MIRA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CANDO ACABAMOS DE INTRODUCIR OS TEX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paramos a Fotonovela para a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eñamos a portada inserindo o que desexemos: imaxe, tex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reparar a presentación temos que ir á pestana superior PRES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“Ver presentación” observaremos que se non facemos clic no rato non pasamos da primeira diapositiva! Non desespe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figurar presentación: neste caso o máis importante é ter seleccionado “Usar os intervalos de diapositiva gardad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fectos de animación: a gusto de cada quen. Eu nas fotonovelas non u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 diapositiva: seleccionar “Diapositiva avanzada”  e “Automaticamente despois de…” indica os segundos que consideres necesarios para ler o texto da dia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SENTACIÓN &gt; 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pensas que todas necesitan os mesmos segundos fai o segui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ción &gt; transición &gt; automaticamente despois de 10 segundos &gt; aplicar a todas as diapos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pasa se para algunhas necesitas máis tempo ou é excesivo? Explícocho na seguinte dia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onas a diapositiva e fas o mesmo que antes, mais xa non lle dás a “Aplicar a todas as diapositiva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onas diapositiva &gt; presentación &gt; transición &gt; automaticamente despois de &gt; 16 segun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 XA ESTÁ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s a Presentación &gt; Ver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obas que todo se le perf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quivas a presentación e a gozar da mes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fas clic 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quí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des ver a que fixemos no noso cent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TOR DA UNIDA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xo Gómez Sánchez, profesor de Lingua Galega no CPI Vicente Otero Valcárcel de Ca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o da fotonovela: Henrique Dacosta, “Diálogo de xordos”, e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nga lingu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Xerais, Vigo, 20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CIONAMOS UN RE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MOS UNHA LECTURA NA AULA EN VOZ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GUIR, ANOTAMOS TODOS OS PERSONAXES E ESPAZOS ONDE SE DESENVOLVE 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MOS O RELATO ATENDENDO AOS ESPAZOS E ACCIÓ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UNTAMOS AS IMAXES QUE IMOS NECESITAR PARA ILUSTRAR CAD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DA IMAXE POÑÉMOSLLE O SEU TEXTO (EN FOLIO E NUN BORRADOR): BEN DO NARRADOR; BEN UN DIÁLOG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TAMOS AS 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PRE FACEMOS MÁIS FOTOS DAS QUE PENSAMOS QUE IMOS NECESITAR (POR SE ALGUNHA SAE 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É MOI IMPORTANTE TER BEN PLANIFICADA A SESIÓN DE FOTOS PARA FACELA RAPIDAMENTE E QUE NON NOS ESQUEZA 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O DE “DIÁLOGO DE XORD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 miña esquerda, un fulano, grosa cadea dourada pendurada do pescozo, camisa peito-lobo-catro-botóns-aberta pese ao rigor do inverno, pulseira escrava-calabrote no pulso esquerdo e cara de poucos amigos. Á miña dereita, paisana perfil enxebre, gardando loito, pano negro á cabeza e agarrada, igual que a súa ancestral vergoña, ao bolso onde garda o seu escaso peculio. Detrás, dous rapaces…” (Ver 2 diapositivas seguin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0360" y="250920"/>
            <a:ext cx="9504360" cy="71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2000" y="324000"/>
            <a:ext cx="8882280" cy="66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ha vez que temos as fotos metémolas nun arquivo no orde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moi importante que manteñamos sempre as fotos no mesmo arquivo, senón poderemos ter problemas co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ra temos que elixir as fotos que imos usar e facer que coincidan coas diferentes partes do 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xo</cp:lastModifiedBy>
  <dcterms:modified xsi:type="dcterms:W3CDTF">2007-12-06T18:31:29Z</dcterms:modified>
  <cp:revision>5</cp:revision>
  <dc:subject/>
  <dc:title>COMO CONVERTER UN   RELATO NUNHA FOTONOVELA</dc:title>
</cp:coreProperties>
</file>